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BD7-6E53-4BBC-8E13-1C56977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55F-405F-426E-933B-783989C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FB9-3DDA-40F4-A302-A13A1DFB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E20-7C0A-4868-8506-127F4D8B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19-230A-4301-B926-459269B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3F9-4A58-4117-B18C-75C00001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426-C509-4F0F-9BA1-56E5EAE4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22D-A8B8-4867-A451-221D4EBA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913-B99D-4D04-9225-40775C8E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F52-F4C8-4740-B135-18B316B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369-77D9-46DC-A5C3-98CCB33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300-394D-43FC-BCC4-457E850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841-4C86-443F-AF3B-3D8D80D5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ersonian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79-2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or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ry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bury vs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nd C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with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Madison’s Wa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0-2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with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the Comba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events – Dead Trolls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Gh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and Political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5-3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ion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 of Ok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ok, you’re 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/Win or Lose/L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1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estic and Foreign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295-3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ida Purchase Treaty of 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ew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Democra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51-3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 the Commo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/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-Adams Bar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ckson Presiden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62-3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il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ticoat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or the rights of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25:14Z</dcterms:created>
  <dc:creator>School District U46</dc:creator>
  <dc:description/>
  <dc:language>en-US</dc:language>
  <cp:lastModifiedBy>School District U46</cp:lastModifiedBy>
  <dcterms:modified xsi:type="dcterms:W3CDTF">2009-10-07T00:25:52Z</dcterms:modified>
  <cp:revision>1</cp:revision>
  <dc:subject/>
  <dc:title>Slide 1</dc:title>
</cp:coreProperties>
</file>